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D3F-2462-44B8-AABD-F69F2E71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D87-4298-47E7-8AC3-53F9F79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474-E692-4F08-92AC-EB0C2F1F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82C-D5B9-456A-BF81-76A269BB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5B1F-BE43-471D-B272-EC0287D5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8FE-C176-4BFB-8654-3CE56DF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FE18-9104-4109-8C23-FE2AEAB7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EB5-7D62-4575-971F-26663AFF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799B-7381-44E2-A7F1-6248195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6801-D4D1-4E6A-B6E5-F58429CA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D161-0018-451F-9990-C62F033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5D5-825A-4B07-97A7-D634822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C6AD-1AC2-42D2-84A9-722BE23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EBCC-BDEB-4F88-B174-BECCD5A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FE95-CE0E-48BB-B82B-08AEA94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61B-DE42-4C92-ABE4-581A424B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8F63-5FEC-4C89-B4A4-EEDD801F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96D-5B5B-4F65-9FE7-4E1F778D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312-2106-4D27-8C5B-4B80A31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219-E215-408C-8AAA-714222C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9AD-8D2F-489A-9DCA-9C053BC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693-29F8-4721-9B7C-1180F25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94F-B16C-43A3-80E0-7EEA2DF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A56-E7FD-4E57-87E2-51069CF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8A4B-6C3B-491D-A9C5-F2F3CAFDA5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918A-90CC-49D9-9D73-5EE727C2B6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 Evaluation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examining and describing the context of t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 being evaluated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a needs and goals assessmen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ing the objectives of the program,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ing whether the proposed objectives will be sufficiently responsive to the identified needs. It helps in making program planning decis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pu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ludes activities such as a description of the program inputs 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comparison of how the program might perform compared to o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prospective benefit/cost assessment (i.e., decide whether you thi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benefits will outweigh the costs, before it is actually implemented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evaluation of the proposed design of the program,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examination of what alternative strategies and procedures should be considered and recommende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short, this type of evaluation examines what the program plans on doing. It helps in making program structuring decis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ludes examining how a program is being implemented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nitoring how the program is performin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ting the program to make sure it is following required legal and ethical guidelines,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entifying defects in the procedural design or in the implementation of the program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t is here that evaluators provide information abou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is actually occur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 the progra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valuators typically provide this kind of feedback to program personnel because it can be helpful in making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mativ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evaluation decisions (i.e., decisions about how to modify or improve the program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general, process evaluation helps in making implementing decis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ludes determining and examining the general and specific outcomes of the program (using impact or outcome assessment techniques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ing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ticipa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utcome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tempting to identify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anticipa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utcomes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essing the merit of the program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ducting a retrospective benefit/cost assessment (to establish actual worth or value), and/or conducting a cost effectiveness assessment (to determine if the program is cost effective compared to other similar programs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duct evaluation is very helpful in making summative evaluation decisions (e.g., What is the merit and worth of t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gram? Should it be continued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 of Program Evalu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atic collection of information abut the activities, characteristics, and outcome of program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use by specific people to reduce uncertainties, improve effectiveness, and make decisions with regard to what those programs are doing and affec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atton, 1986).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nd provide useful information for judging decision alternatives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an audience to judge and improve the worth of some educational program or object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the improvement of policies and progra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fflebe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whether and how effectively the objectives are being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unplanned and unexpected consequ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underlying policies and related activities that contribute to success or failure in particular ar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ntinuous feedbac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ntext, Input, Process, and Produc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e CIPP Mod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838080" y="2209680"/>
          <a:ext cx="7693200" cy="46209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pect of evaluation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 of decision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ind of question answered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ex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lann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hat should we do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w should we do it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lement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e we doing it as planned? And if not, why not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cycl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d it work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P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e systems model applied to program eval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types are typically viewed as separate forms of evaluation, b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can also be viewed as steps or stages in a comprehensive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rmative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&lt;      ---------       &gt;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mm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048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CIPP model, there is a clear distinction betwe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mativ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 (conducted for the purpose of improving the program)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mmativ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 (conducted for the purpose of accountability which requires determining the overall effectiveness or merit of the program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22:33Z</dcterms:created>
  <dc:creator>Administrator</dc:creator>
  <dc:description/>
  <dc:language>en-US</dc:language>
  <cp:lastModifiedBy>Administrator</cp:lastModifiedBy>
  <dcterms:modified xsi:type="dcterms:W3CDTF">2009-03-26T21:45:27Z</dcterms:modified>
  <cp:revision>4</cp:revision>
  <dc:subject/>
  <dc:title>Context, Input, Process, and Product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1961798137</vt:r8>
  </property>
  <property fmtid="{D5CDD505-2E9C-101B-9397-08002B2CF9AE}" pid="4" name="_AuthorEmail">
    <vt:lpwstr>Thomas.DiPaola@jwu.edu</vt:lpwstr>
  </property>
  <property fmtid="{D5CDD505-2E9C-101B-9397-08002B2CF9AE}" pid="5" name="_AuthorEmailDisplayName">
    <vt:lpwstr>Thomas DiPaola</vt:lpwstr>
  </property>
  <property fmtid="{D5CDD505-2E9C-101B-9397-08002B2CF9AE}" pid="6" name="_EmailSubject">
    <vt:lpwstr>slides</vt:lpwstr>
  </property>
</Properties>
</file>